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E21F-2657-4EEB-ADCC-D6674821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50D-8DCB-40CE-924C-2A5A2039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CA5F-C6E1-4597-917F-AF6197B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3C24-7DED-4782-919E-78261588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AC82-23C5-4EE3-99CE-7433735A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5273-9232-41D1-8F77-94670EAC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D4818-C755-4C7C-B94A-943E2A2D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18B8-5CA8-41F9-B2CF-4ABDC57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95417-7D30-4E2C-80EE-9F803C74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2D1B-4043-4EA3-BB45-F1E5FE16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BF55-B286-4DCF-861C-6333703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0BD-E4E4-40FC-93A0-AAD0A2AE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824BD-A695-4934-952A-0345D5F0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371-17BF-46A5-9F22-A52DE362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2A1-7BFF-4020-A4E1-B32E0F6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3B67-3F86-4C5A-80D8-0BD040CBA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CAD2-67B7-4A03-B395-B2FB139B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7CFA-AD17-45B2-BBDE-343FB244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542B-613B-4A0E-93CF-AFCBB1DC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6ACA-9917-4552-B638-9899F48A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1B03-9479-4EA7-9814-142994E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4685-A3A5-4B2D-94B4-4C4171F7C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FC5C-3402-4835-9F60-4024621E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FACE-B705-4FC3-A8B8-8F68BFEF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A59F-F3A6-46FE-8BBD-629865C5324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1BD5-D413-453C-966C-A6765BA6FC1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es passions et mes loisir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ogdan Beng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Ces sont mes passions et mes loisirs!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          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3500" spc="-1" strike="noStrike">
                <a:solidFill>
                  <a:srgbClr val="003366"/>
                </a:solidFill>
                <a:latin typeface="Arial"/>
              </a:rPr>
              <a:t>Quels sont les vôtres ?</a:t>
            </a:r>
            <a:endParaRPr b="0" lang="en-US" sz="35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s pass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371600" y="2438280"/>
            <a:ext cx="2819520" cy="1828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52880" y="2438280"/>
            <a:ext cx="2971800" cy="1828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371600" y="4495680"/>
            <a:ext cx="2819520" cy="1981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952880" y="4495680"/>
            <a:ext cx="2971800" cy="19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tenn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erlin Sans FB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J’adore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jouer tennis parce qu'il est l'un d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lus beau sport dans la monde et parce q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uis un personn sportif. Je pratique  tenni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quand j'avais 7 ans et  j'ai particip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a plusieurs tournoi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81480" y="3733920"/>
            <a:ext cx="331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Plongée sous-marine 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       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Je practique plonge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sous-marine de quatre ann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é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et je l’aime beacoup parce q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la mer est une autre vi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C’est magnifique!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76920" y="243828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voyag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Berlin Sans FB"/>
              </a:rPr>
              <a:t>	</a:t>
            </a:r>
            <a:r>
              <a:rPr b="0" lang="en-US" sz="3600" spc="-1" strike="noStrike">
                <a:solidFill>
                  <a:srgbClr val="003366"/>
                </a:solidFill>
                <a:latin typeface="Berlin Sans FB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</a:rPr>
              <a:t>Dans chaque vacances j’ai visit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e une region montagne ou j’ai allee a la mer.Dans ces voyages je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visiter tous les beaux lieux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 et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'apprecie la beaute de chaque lieu</a:t>
            </a:r>
            <a:r>
              <a:rPr b="0" lang="en-US" sz="2000" spc="-1" strike="noStrike">
                <a:solidFill>
                  <a:srgbClr val="003366"/>
                </a:solidFill>
                <a:latin typeface="Berlin Sans FB"/>
                <a:ea typeface="Arial"/>
              </a:rPr>
              <a:t>.Je voudrais aller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n Australie parce qu'il ya de meilleurs endroits pour faire la plongee sous-marin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43200" y="4191120"/>
            <a:ext cx="3828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es loisir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29000" y="4724280"/>
            <a:ext cx="214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90720" y="2438280"/>
            <a:ext cx="2666880" cy="20574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2495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pian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ais comment jou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du piano depuis que j'ai 10 a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presque tous les week-end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e stduiez chanson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et jouer du pian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181480" y="2743200"/>
            <a:ext cx="2971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 lectur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J'ai lu presque tous les soirs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mais maintenant que je n'ai pas du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temps.J'aime lire et d'apprend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66"/>
                </a:solidFill>
                <a:latin typeface="Arial"/>
              </a:rPr>
              <a:t>nouvelles information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57800" y="2666880"/>
            <a:ext cx="28576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 ordinateu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2495520" cy="1828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733920" y="2666880"/>
            <a:ext cx="5029200" cy="40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3366"/>
                </a:solidFill>
                <a:latin typeface="Arial"/>
              </a:rPr>
              <a:t>Un ordinateur est une machine electronique qui fonctionne par la lecture sequentielle d'un ensemble d'instructions qui lui font executer des operations logiques et arithmetiques sur des chiffres binaires. J’aime a en apprendre davantage sur les ordinateurs et aussi jouer sur l'ordinateur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BO</cp:lastModifiedBy>
  <dcterms:modified xsi:type="dcterms:W3CDTF">2012-05-15T06:17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